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686-F6A0-45E9-8C7F-7671D555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6485-A2F0-4CBF-BA69-5FE1FD07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2BC-CC29-4C69-AD67-A7C4481C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D15-D882-4F2B-B4A6-411DF0AD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881D-67EC-405B-98C3-8E7AB37D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50A1-A18E-48FC-8AC8-E93005DA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2BF5-C899-4500-8718-48F34BFE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9B9B-E510-4DCE-B42B-0B669A23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1DA1-E319-4325-9F75-C651592C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4FDD-AB5A-46FA-9843-D368FBA6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2D8E-AF25-4832-9618-95D8D4BE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6F7-4819-49DF-9CA6-19BE866C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0630-E70E-4776-ABF9-AC6C225E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BEA1-510E-48FF-B0A6-E5B551CC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9C9E-0894-45B5-94B9-BAA0412B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8216-856F-4763-962C-1DB969F1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5C50-7A67-4339-B973-2249A61A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A1C-D8E3-44FF-BC54-7F94E517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A2F-30A0-486D-94C6-A7F34B26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90B-4545-4557-8757-646002E9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6C0-95E8-4734-A91F-8EE6FE58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79A-D23B-433A-99BB-87FDD97B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CACB-980E-4BC4-8F06-65EA22A2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2AF8-F0D8-48A7-8E5C-0C4FC7BF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c6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87bacc"/>
                </a:gs>
                <a:gs pos="100000">
                  <a:srgbClr val="8fc6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8fc6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2175-20BE-4850-B06D-2383F2FEEE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c6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9a8b8"/>
                </a:gs>
                <a:gs pos="100000">
                  <a:srgbClr val="8fc6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8fc6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7A4B-5C8A-4830-BE6C-EF40FA6FC7B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Тема «блудных» детей – общечеловеческая тема»?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ыполнили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                              учащиеся 7 Б класса: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                                Истомин Т., Кирина Д.,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                                     Сладков К., Темникова Т.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                              Учитель С.А.Зацепин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ahoma"/>
              </a:rPr>
              <a:t>А.С.Пушкин 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Tahoma"/>
              </a:rPr>
              <a:t>«Станционный смотритель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329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Дуня повторяет историю блудного сы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Но библейский герой счастливее, потому что он успел попросить прощения у отца и был прощён, 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Дуня всю свою жизнь будет мучиться мыслью, что она предала отца, погубила ег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Tahoma"/>
              </a:rPr>
              <a:t>Уничтожение корабля неизбежно ведёт к гибели всех людей, находящихся на нём. Разрушение связей с отчим домом и разрушение самого дома – это уничтожение корней человека, его истоков,</a:t>
            </a:r>
            <a:br>
              <a:rPr sz="3600"/>
            </a:br>
            <a:r>
              <a:rPr b="0" lang="ru-RU" sz="3600" spc="-1" strike="noStrike">
                <a:solidFill>
                  <a:srgbClr val="a50021"/>
                </a:solidFill>
                <a:latin typeface="Tahoma"/>
              </a:rPr>
              <a:t> а значит, его самого.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cc"/>
                </a:solidFill>
                <a:uFillTx/>
                <a:latin typeface="Tahoma"/>
              </a:rPr>
              <a:t>“</a:t>
            </a:r>
            <a:r>
              <a:rPr b="1" lang="ru-RU" sz="3600" spc="-1" strike="noStrike" u="sng">
                <a:solidFill>
                  <a:srgbClr val="0033cc"/>
                </a:solidFill>
                <a:uFillTx/>
                <a:latin typeface="Tahoma"/>
              </a:rPr>
              <a:t>Разрушение отчего дома 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cc"/>
                </a:solidFill>
                <a:uFillTx/>
                <a:latin typeface="Tahoma"/>
              </a:rPr>
              <a:t>как сожжение корабля”</a:t>
            </a:r>
            <a:r>
              <a:rPr b="1" lang="ru-RU" sz="3600" spc="-1" strike="noStrike">
                <a:solidFill>
                  <a:srgbClr val="0033cc"/>
                </a:solidFill>
                <a:latin typeface="Tahoma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                              </a:t>
            </a: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Александр Городниц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ahoma"/>
              </a:rPr>
              <a:t>Тема «блудных» детей – общечеловеческая тема»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Эта тема касается любого человека. Не имеет значения его национальность, место жительства, вероисповедание. Проблемы                      во взаимоотношениях с родителями могут возникнуть у любого. Главное, не доводить эти проблемы до ситуации блудного сына, Молодца или Дуни. Важно уметь говорить и показывать своим родителям, что мы их любим. Важно вовремя просить у них прощения за обиды, нанесенные им, потому что возможность сказать: “Прости меня” может больше не представить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9152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ahoma"/>
              </a:rPr>
              <a:t>Цели: </a:t>
            </a:r>
            <a:r>
              <a:rPr b="1" i="1" lang="ru-RU" sz="2400" spc="-1" strike="noStrike">
                <a:solidFill>
                  <a:srgbClr val="a50021"/>
                </a:solidFill>
                <a:latin typeface="Tahoma"/>
              </a:rPr>
              <a:t>выяснить, каково решение темы “блудных детей” в “Станционном смотрителе”; сравнить его с библейской “Притчей о блудном сыне”, древнерусской “Повестью о Горе-Злочастии”; с картиной Рембрандта “Возвращение блудного сына”, сопоставить изображение истории блудного сына в разных произведениях и сравнить их с первоисточником</a:t>
            </a: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 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ahoma"/>
              </a:rPr>
              <a:t>Библейская притча 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Tahoma"/>
              </a:rPr>
              <a:t>о блудном сыне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50021"/>
                </a:solidFill>
                <a:uFillTx/>
                <a:latin typeface="Tahoma"/>
              </a:rPr>
              <a:t>   </a:t>
            </a: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«Кто из вас, имея сто овец и потеряв одну из них, не оставит девяносто девяти в пустыне и не пойдёт за пропавшею, пока не найдёт её? А найдя, возьмёт её на плечи свои с радостью и, придя домой, созовёт друзей и соседей и скажет им: порадуйтесь со мною, я нашёл мою пропавшую овцу. Сказываю вам, что так на небесах более радости будет об одном грешнике кающемся, нежели о девяноста девяти праведниках, не имеющих нужды в покаянии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http://www.proza.ru/pics/2015/11/08/1950.jpg"/>
          <p:cNvPicPr/>
          <p:nvPr/>
        </p:nvPicPr>
        <p:blipFill>
          <a:blip r:embed="rId1"/>
          <a:stretch/>
        </p:blipFill>
        <p:spPr>
          <a:xfrm>
            <a:off x="3067200" y="4925880"/>
            <a:ext cx="261432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ahoma"/>
              </a:rPr>
              <a:t>Библейская притча 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Tahoma"/>
              </a:rPr>
              <a:t>о блудном сыне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  </a:t>
            </a: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Таким образом, блудный сын – человек, не просто потерявший семью, отчий дом, родину, но и заблудившийся на жизненном пути, утративший нравственный ориентиры в жизн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Финал притчи радостный, потому что 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блудный сын вернулся домой, </a:t>
            </a: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успел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 попросить у отца прощение и получить его.</a:t>
            </a:r>
            <a:r>
              <a:rPr b="0" lang="ru-RU" sz="36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cc"/>
                </a:solidFill>
                <a:uFillTx/>
                <a:latin typeface="Tahoma"/>
              </a:rPr>
              <a:t>Картина</a:t>
            </a:r>
            <a:r>
              <a:rPr b="1" lang="ru-RU" sz="36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ru-RU" sz="3600" spc="-1" strike="noStrike" u="sng">
                <a:solidFill>
                  <a:srgbClr val="0033cc"/>
                </a:solidFill>
                <a:uFillTx/>
                <a:latin typeface="Tahoma"/>
              </a:rPr>
              <a:t>художника XVII века Рембрандта Ван Рейна “Возвращение блудного сына”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211640" y="1950120"/>
            <a:ext cx="478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Для художника важнее чувства отца, поэтому именно его лицо показывает зрителям автор, сын стоит спиной к н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Отец испытывает радость от возвращения сына, грусть, потому что он видит,                     в каком состоянии сын, чувствует, сколько ему пришлось пережи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8" descr="Prodigal Son Returns - Viewing Gallery"/>
          <p:cNvPicPr/>
          <p:nvPr/>
        </p:nvPicPr>
        <p:blipFill>
          <a:blip r:embed="rId1"/>
          <a:stretch/>
        </p:blipFill>
        <p:spPr>
          <a:xfrm>
            <a:off x="281160" y="1920960"/>
            <a:ext cx="37670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cc"/>
                </a:solidFill>
                <a:uFillTx/>
                <a:latin typeface="Tahoma"/>
              </a:rPr>
              <a:t>Картина</a:t>
            </a:r>
            <a:r>
              <a:rPr b="1" lang="ru-RU" sz="36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ru-RU" sz="3600" spc="-1" strike="noStrike" u="sng">
                <a:solidFill>
                  <a:srgbClr val="0033cc"/>
                </a:solidFill>
                <a:uFillTx/>
                <a:latin typeface="Tahoma"/>
              </a:rPr>
              <a:t>художника XVII века Рембрандта Ван Рейна “Возвращение блудного сына”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Блудный сын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        </a:t>
            </a: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вернулся домой 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                  </a:t>
            </a: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был прощен отц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ahoma"/>
              </a:rPr>
              <a:t>«Повесть о Горе-Злочастии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929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a50021"/>
                </a:solidFill>
                <a:latin typeface="Tahoma"/>
              </a:rPr>
              <a:t>Горе говорит Молодцу:</a:t>
            </a:r>
            <a:br>
              <a:rPr sz="2400"/>
            </a:br>
            <a:r>
              <a:rPr b="0" i="1" lang="ru-RU" sz="2400" spc="-1" strike="noStrike">
                <a:solidFill>
                  <a:srgbClr val="a50021"/>
                </a:solidFill>
                <a:latin typeface="Tahoma"/>
              </a:rPr>
              <a:t>“Спамятуй, Молодец, житие свое первое.</a:t>
            </a:r>
            <a:br>
              <a:rPr sz="2400"/>
            </a:br>
            <a:r>
              <a:rPr b="0" i="1" lang="ru-RU" sz="2400" spc="-1" strike="noStrike">
                <a:solidFill>
                  <a:srgbClr val="a50021"/>
                </a:solidFill>
                <a:latin typeface="Tahoma"/>
              </a:rPr>
              <a:t>И как тебе отец говорил,</a:t>
            </a:r>
            <a:br>
              <a:rPr sz="2400"/>
            </a:br>
            <a:r>
              <a:rPr b="0" i="1" lang="ru-RU" sz="2400" spc="-1" strike="noStrike">
                <a:solidFill>
                  <a:srgbClr val="a50021"/>
                </a:solidFill>
                <a:latin typeface="Tahoma"/>
              </a:rPr>
              <a:t>И как тебе мать наказывала!</a:t>
            </a:r>
            <a:br>
              <a:rPr sz="2400"/>
            </a:br>
            <a:r>
              <a:rPr b="0" i="1" lang="ru-RU" sz="2400" spc="-1" strike="noStrike">
                <a:solidFill>
                  <a:srgbClr val="a50021"/>
                </a:solidFill>
                <a:latin typeface="Tahoma"/>
              </a:rPr>
              <a:t>О чём тогда ты их не послушал,</a:t>
            </a:r>
            <a:br>
              <a:rPr sz="2400"/>
            </a:br>
            <a:r>
              <a:rPr b="0" i="1" lang="ru-RU" sz="2400" spc="-1" strike="noStrike">
                <a:solidFill>
                  <a:srgbClr val="a50021"/>
                </a:solidFill>
                <a:latin typeface="Tahoma"/>
              </a:rPr>
              <a:t>не захотел ты им покориться, </a:t>
            </a:r>
            <a:br>
              <a:rPr sz="2400"/>
            </a:br>
            <a:r>
              <a:rPr b="0" i="1" lang="ru-RU" sz="2400" spc="-1" strike="noStrike">
                <a:solidFill>
                  <a:srgbClr val="a50021"/>
                </a:solidFill>
                <a:latin typeface="Tahoma"/>
              </a:rPr>
              <a:t>постыдился ты им поклониться, </a:t>
            </a:r>
            <a:br>
              <a:rPr sz="2400"/>
            </a:br>
            <a:r>
              <a:rPr b="0" i="1" lang="ru-RU" sz="2400" spc="-1" strike="noStrike">
                <a:solidFill>
                  <a:srgbClr val="a50021"/>
                </a:solidFill>
                <a:latin typeface="Tahoma"/>
              </a:rPr>
              <a:t>а хотел ты жить, как тебе любо есть.</a:t>
            </a:r>
            <a:br>
              <a:rPr sz="2400"/>
            </a:br>
            <a:r>
              <a:rPr b="0" i="1" lang="ru-RU" sz="2400" spc="-1" strike="noStrike">
                <a:solidFill>
                  <a:srgbClr val="a50021"/>
                </a:solidFill>
                <a:latin typeface="Tahoma"/>
              </a:rPr>
              <a:t>А кто родителей своих на добро учение                                      не слушает,</a:t>
            </a:r>
            <a:br>
              <a:rPr sz="2400"/>
            </a:br>
            <a:r>
              <a:rPr b="0" i="1" lang="ru-RU" sz="2400" spc="-1" strike="noStrike">
                <a:solidFill>
                  <a:srgbClr val="a50021"/>
                </a:solidFill>
                <a:latin typeface="Tahoma"/>
              </a:rPr>
              <a:t>Того выучу я, Горе злочастное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http://rarebooks.ru/media/photos/3170a.jpg.100x100_q85_crop.jpg"/>
          <p:cNvPicPr/>
          <p:nvPr/>
        </p:nvPicPr>
        <p:blipFill>
          <a:blip r:embed="rId1"/>
          <a:stretch/>
        </p:blipFill>
        <p:spPr>
          <a:xfrm>
            <a:off x="6286680" y="2571840"/>
            <a:ext cx="2738160" cy="27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ahoma"/>
              </a:rPr>
              <a:t>«Повесть о Горе-Злочастии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  </a:t>
            </a:r>
            <a:r>
              <a:rPr b="1" lang="ru-RU" sz="3600" spc="-1" strike="noStrike" u="sng">
                <a:solidFill>
                  <a:srgbClr val="a50021"/>
                </a:solidFill>
                <a:uFillTx/>
                <a:latin typeface="Tahoma"/>
              </a:rPr>
              <a:t>В финале повести Молодец встал на путь, которому его учили отец и мать, пошел по их дороге, следовательно,</a:t>
            </a:r>
            <a:r>
              <a:rPr b="1" lang="ru-RU" sz="3600" spc="-1" strike="noStrike" u="sng">
                <a:solidFill>
                  <a:srgbClr val="ff3300"/>
                </a:solidFill>
                <a:uFillTx/>
                <a:latin typeface="Tahoma"/>
              </a:rPr>
              <a:t> вернулся к ним, хоть и не увидел их сами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ahoma"/>
              </a:rPr>
              <a:t>А.С.Пушкин 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Tahoma"/>
              </a:rPr>
              <a:t>«Станционный смотритель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Прекрасная барыня, …ехала она в карете в шесть лошадей, с тремя барчатами, и с кормилицей, и с чёрной моською; и как ей сказали, что старый смотритель умер, так она заплакала и сказала детям: “Сидите смирно, а я схожу на кладбище”…Она легла здесь и лежала долго”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5" descr="http://radonezh.ru/assets/storage/files/223/7223/pushkin_smotritel3.JPG"/>
          <p:cNvPicPr/>
          <p:nvPr/>
        </p:nvPicPr>
        <p:blipFill>
          <a:blip r:embed="rId1"/>
          <a:stretch/>
        </p:blipFill>
        <p:spPr>
          <a:xfrm>
            <a:off x="2706840" y="4327560"/>
            <a:ext cx="369396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0:41:41Z</dcterms:created>
  <dc:creator>1</dc:creator>
  <dc:description/>
  <dc:language>en-US</dc:language>
  <cp:lastModifiedBy>USER</cp:lastModifiedBy>
  <dcterms:modified xsi:type="dcterms:W3CDTF">2018-02-04T13:46:00Z</dcterms:modified>
  <cp:revision>7</cp:revision>
  <dc:subject/>
  <dc:title>Тема «блудных» детей – общечеловеческая тема»?</dc:title>
</cp:coreProperties>
</file>