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73DD-FF49-40CD-89D5-08F92820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D69E-5B5A-46BE-A327-CA930698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A3D6-0F2A-479D-AC32-A929B425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7F44-688F-44CB-A7FF-2D4B4020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FEA3-A869-4DF6-AC0F-6D82399E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EB4E-CD80-4D8B-830D-895BE83C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D6DA-2320-4982-A952-ACE0F2A8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893A-79E6-48DB-B861-3F965B56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5919-C713-4715-B381-BAAB7959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97AA-96D8-4B7D-B53F-4E60B9DC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DD3C-8436-4587-ADF9-96B8DA22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1251-3D18-4293-A111-F81C0A54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647B-0344-4810-998C-7BF218E4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8081-BF78-4D2A-8783-B63F611E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57D2-14A6-44E0-836B-561117C0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7F77-67F1-4312-9D90-C325B641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3B1B-66DC-4919-ADC4-D053735A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A474-B31C-4BFF-BB92-5CB6948E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117E-8ED5-4A91-B5AF-D9C46CA5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545C-D37C-4BF3-95E5-BA6B09E0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A6B0-54AC-4E7E-A870-18A2510F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6C63-A40D-45E4-9BB4-AD2CEC52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05D8-1E42-425D-A231-D470E06C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F5E2-3579-4D5B-9F49-C344EE98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021B-5B83-4FBC-8493-787D236A33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B8B2-6692-4002-A90A-43D9FB9B7F7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658440"/>
            <a:ext cx="8458200" cy="360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 Black"/>
              </a:rPr>
              <a:t>Тепловые явления.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 Black"/>
              </a:rPr>
              <a:t>Изменения агрегатных состояний вещества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(урок обобщения и систематизации)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Цель уро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торить понятия, изучаемые в данной тем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должить формировать умения применять знания, полученные ранее при решении качественных и количественных зада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094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Основное понят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нутренняя энерг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это  энергия движения и взаимодействия частиц, из которых состоит те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Organization Chart 21"/>
          <p:cNvGrpSpPr/>
          <p:nvPr/>
        </p:nvGrpSpPr>
        <p:grpSpPr>
          <a:xfrm>
            <a:off x="276120" y="380880"/>
            <a:ext cx="8715240" cy="6019560"/>
            <a:chOff x="276120" y="380880"/>
            <a:chExt cx="8715240" cy="6019560"/>
          </a:xfrm>
        </p:grpSpPr>
        <p:cxnSp>
          <p:nvCxnSpPr>
            <p:cNvPr id="217" name="_s1028"/>
            <p:cNvCxnSpPr>
              <a:stCxn id="218" idx="0"/>
              <a:endCxn id="219" idx="2"/>
            </p:cNvCxnSpPr>
            <p:nvPr/>
          </p:nvCxnSpPr>
          <p:spPr>
            <a:xfrm flipV="1" rot="16200000">
              <a:off x="6949440" y="3621240"/>
              <a:ext cx="753120" cy="1794960"/>
            </a:xfrm>
            <a:prstGeom prst="bentConnector3">
              <a:avLst>
                <a:gd name="adj1" fmla="val 1516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20" name="_s1029"/>
            <p:cNvCxnSpPr>
              <a:stCxn id="221" idx="0"/>
              <a:endCxn id="219" idx="2"/>
            </p:cNvCxnSpPr>
            <p:nvPr/>
          </p:nvCxnSpPr>
          <p:spPr>
            <a:xfrm flipV="1">
              <a:off x="6428520" y="4142520"/>
              <a:ext cx="1080" cy="7531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22" name="_s1030"/>
            <p:cNvCxnSpPr>
              <a:stCxn id="223" idx="0"/>
              <a:endCxn id="219" idx="2"/>
            </p:cNvCxnSpPr>
            <p:nvPr/>
          </p:nvCxnSpPr>
          <p:spPr>
            <a:xfrm flipH="1" flipV="1" rot="5400000">
              <a:off x="5154840" y="3621240"/>
              <a:ext cx="753120" cy="1795320"/>
            </a:xfrm>
            <a:prstGeom prst="bentConnector3">
              <a:avLst>
                <a:gd name="adj1" fmla="val 1516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24" name="_s1031"/>
            <p:cNvCxnSpPr>
              <a:stCxn id="225" idx="0"/>
              <a:endCxn id="226" idx="2"/>
            </p:cNvCxnSpPr>
            <p:nvPr/>
          </p:nvCxnSpPr>
          <p:spPr>
            <a:xfrm flipV="1" rot="16200000">
              <a:off x="2014560" y="4069440"/>
              <a:ext cx="753120" cy="898560"/>
            </a:xfrm>
            <a:prstGeom prst="bentConnector3">
              <a:avLst>
                <a:gd name="adj1" fmla="val 1516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27" name="_s1032"/>
            <p:cNvCxnSpPr>
              <a:stCxn id="228" idx="0"/>
              <a:endCxn id="226" idx="2"/>
            </p:cNvCxnSpPr>
            <p:nvPr/>
          </p:nvCxnSpPr>
          <p:spPr>
            <a:xfrm flipH="1" flipV="1" rot="5400000">
              <a:off x="1117440" y="4070520"/>
              <a:ext cx="753120" cy="897120"/>
            </a:xfrm>
            <a:prstGeom prst="bentConnector3">
              <a:avLst>
                <a:gd name="adj1" fmla="val 1516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29" name="_s1033"/>
            <p:cNvCxnSpPr>
              <a:stCxn id="219" idx="0"/>
              <a:endCxn id="230" idx="2"/>
            </p:cNvCxnSpPr>
            <p:nvPr/>
          </p:nvCxnSpPr>
          <p:spPr>
            <a:xfrm flipV="1" rot="16200000">
              <a:off x="4931280" y="1139400"/>
              <a:ext cx="752760" cy="2243520"/>
            </a:xfrm>
            <a:prstGeom prst="bentConnector3">
              <a:avLst>
                <a:gd name="adj1" fmla="val 1516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31" name="_s1034"/>
            <p:cNvCxnSpPr>
              <a:stCxn id="226" idx="0"/>
              <a:endCxn id="230" idx="2"/>
            </p:cNvCxnSpPr>
            <p:nvPr/>
          </p:nvCxnSpPr>
          <p:spPr>
            <a:xfrm flipH="1" flipV="1" rot="5400000">
              <a:off x="2688120" y="1139400"/>
              <a:ext cx="752760" cy="2243880"/>
            </a:xfrm>
            <a:prstGeom prst="bentConnector3">
              <a:avLst>
                <a:gd name="adj1" fmla="val 15167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30" name="_s1035"/>
            <p:cNvSpPr/>
            <p:nvPr/>
          </p:nvSpPr>
          <p:spPr>
            <a:xfrm>
              <a:off x="3415680" y="380880"/>
              <a:ext cx="1537920" cy="15048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пособы изменения внутренней энерг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_s1036"/>
            <p:cNvSpPr/>
            <p:nvPr/>
          </p:nvSpPr>
          <p:spPr>
            <a:xfrm>
              <a:off x="1173240" y="2637720"/>
              <a:ext cx="1537920" cy="15048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Работ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_s1037"/>
            <p:cNvSpPr/>
            <p:nvPr/>
          </p:nvSpPr>
          <p:spPr>
            <a:xfrm>
              <a:off x="5658840" y="2637720"/>
              <a:ext cx="1537920" cy="15048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Теплопередач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_s1038"/>
            <p:cNvSpPr/>
            <p:nvPr/>
          </p:nvSpPr>
          <p:spPr>
            <a:xfrm>
              <a:off x="276120" y="4895640"/>
              <a:ext cx="1537920" cy="15048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Деформация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1039"/>
            <p:cNvSpPr/>
            <p:nvPr/>
          </p:nvSpPr>
          <p:spPr>
            <a:xfrm>
              <a:off x="2070360" y="4895640"/>
              <a:ext cx="1537920" cy="1502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Трени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_s1040"/>
            <p:cNvSpPr/>
            <p:nvPr/>
          </p:nvSpPr>
          <p:spPr>
            <a:xfrm>
              <a:off x="3864960" y="4895640"/>
              <a:ext cx="1537200" cy="15022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Теплопровод-ность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_s1041"/>
            <p:cNvSpPr/>
            <p:nvPr/>
          </p:nvSpPr>
          <p:spPr>
            <a:xfrm>
              <a:off x="5658840" y="4895640"/>
              <a:ext cx="1537920" cy="15022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Конвекция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_s1042"/>
            <p:cNvSpPr/>
            <p:nvPr/>
          </p:nvSpPr>
          <p:spPr>
            <a:xfrm>
              <a:off x="7453440" y="4895640"/>
              <a:ext cx="1537920" cy="15022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Излучени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Обобщающая таблиц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Picture 9" descr="5cлайд"/>
          <p:cNvPicPr/>
          <p:nvPr/>
        </p:nvPicPr>
        <p:blipFill>
          <a:blip r:embed="rId1"/>
          <a:stretch/>
        </p:blipFill>
        <p:spPr>
          <a:xfrm>
            <a:off x="533520" y="1828800"/>
            <a:ext cx="8020080" cy="45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График тепловых явлен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Picture 6" descr="6cлайд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52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энергии потребуется для того, чтобы расплавить металлизированные окатыши массой 20 кг, взятые при температуре 25ºС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= 1500ºС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λ= 0,84 · 105 Дж/кг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= 500 Дж/кг·º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Picture 4" descr="7cлайд"/>
          <p:cNvPicPr/>
          <p:nvPr/>
        </p:nvPicPr>
        <p:blipFill>
          <a:blip r:embed="rId1"/>
          <a:stretch/>
        </p:blipFill>
        <p:spPr>
          <a:xfrm>
            <a:off x="152280" y="1676520"/>
            <a:ext cx="8839440" cy="4952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ЦИТ</cp:lastModifiedBy>
  <dcterms:modified xsi:type="dcterms:W3CDTF">2013-05-06T11:49:4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