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E38F0-6D7A-4706-8A62-ADF762087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27E90-6317-4398-B72E-637D0BB5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19FC1-0413-4DEA-94E2-2BACC2A5C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1C69C-846A-4B13-8D07-29A61BB3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6DC2-4809-405F-943D-F46CB782D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C4B48-4D25-4FD0-ABC5-AB6B7DF4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A0F6-19C4-4D4C-A26A-A94E5F7A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A763-9243-4011-87B7-F730D2C9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8BE2-8D6E-4522-B468-C424929E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29FB-9940-4A36-BE5C-4A70A361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8135-6B54-4798-ADE8-5B1A613D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91BDD-0791-4006-BD05-F9A51663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0DE9-B354-4FBF-87A8-7AFE4813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2084-36A7-43A5-959A-EEF0424F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6D6B-2B39-4C9B-B8E5-543E0436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B2A4-7C44-4E35-BF2C-33CA1FC1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52AB-F5C8-4CB2-96EA-90C46A79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04EBA-DDC7-4E27-8B1B-4DE11C55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33E49-FAFA-4BFD-98AF-84205CA5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6BAF7-891E-4DD1-B7A8-29AD75D0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4F62F-3BB7-4E35-AAF1-CCD74F7E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6B951-7FB0-4663-B75A-48FD196D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D33C4-B557-4F4C-95FF-83E794B8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F87DE-F3BA-44AA-99AB-5D1DD65F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E7E6-6541-48BC-9F88-934F02C05D1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DD5A-6F75-41ED-A999-4345BB247C0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АРХИМЕДОВА  СИЛ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Res" descr="res2B9342A5-C70D-47CC-A3D8-AACB47B44ED6"/>
          <p:cNvPicPr/>
          <p:nvPr/>
        </p:nvPicPr>
        <p:blipFill>
          <a:blip r:embed="rId1"/>
          <a:stretch/>
        </p:blipFill>
        <p:spPr>
          <a:xfrm>
            <a:off x="2857680" y="4221000"/>
            <a:ext cx="3503520" cy="2637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pa_806"/>
          <p:cNvPicPr/>
          <p:nvPr/>
        </p:nvPicPr>
        <p:blipFill>
          <a:blip r:embed="rId2"/>
          <a:stretch/>
        </p:blipFill>
        <p:spPr>
          <a:xfrm>
            <a:off x="846000" y="693720"/>
            <a:ext cx="2070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НАШИ  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8360" y="1628640"/>
          <a:ext cx="8229600" cy="4694400"/>
        </p:xfrm>
        <a:graphic>
          <a:graphicData uri="http://schemas.openxmlformats.org/drawingml/2006/table">
            <a:tbl>
              <a:tblPr/>
              <a:tblGrid>
                <a:gridCol w="3929040"/>
                <a:gridCol w="4300560"/>
              </a:tblGrid>
              <a:tr h="581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химедова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л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зависит о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не зависит о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а погруженной части тел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тности тел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тности жидкост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а тел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бины погруж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ЗАПОМНИ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{126834C0-3349-47BB-8CDC-CD11ADAF278C}"/>
          <p:cNvPicPr/>
          <p:nvPr/>
        </p:nvPicPr>
        <p:blipFill>
          <a:blip r:embed="rId1"/>
          <a:stretch/>
        </p:blipFill>
        <p:spPr>
          <a:xfrm>
            <a:off x="468360" y="2133720"/>
            <a:ext cx="8351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РЕШЕНИЕ  ПРОБЛЕМНОЙ  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5560" y="1980720"/>
            <a:ext cx="850716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о:                 СИ                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20 с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2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ж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 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ж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1000 кг/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1000 кг/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,8 Н/кг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·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0,2 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0,2 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2771640" y="2276640"/>
            <a:ext cx="0" cy="237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6"/>
          <p:cNvSpPr/>
          <p:nvPr/>
        </p:nvSpPr>
        <p:spPr>
          <a:xfrm>
            <a:off x="4356000" y="2276640"/>
            <a:ext cx="0" cy="230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7"/>
          <p:cNvSpPr/>
          <p:nvPr/>
        </p:nvSpPr>
        <p:spPr>
          <a:xfrm>
            <a:off x="466560" y="378936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36"/>
          <p:cNvSpPr/>
          <p:nvPr/>
        </p:nvSpPr>
        <p:spPr>
          <a:xfrm>
            <a:off x="1332000" y="5372280"/>
            <a:ext cx="3097080" cy="720720"/>
          </a:xfrm>
          <a:prstGeom prst="ellipse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3348000" y="1700280"/>
            <a:ext cx="2376360" cy="151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Arial"/>
              </a:rPr>
              <a:t>ОПОРНЫЙ КОН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2">
            <a:lum contrast="54000"/>
          </a:blip>
          <a:srcRect l="4011" t="16279" r="77684" b="74944"/>
          <a:stretch/>
        </p:blipFill>
        <p:spPr>
          <a:xfrm>
            <a:off x="468360" y="1989000"/>
            <a:ext cx="1476360" cy="505080"/>
          </a:xfrm>
          <a:prstGeom prst="rect">
            <a:avLst/>
          </a:prstGeom>
          <a:ln w="0">
            <a:noFill/>
          </a:ln>
        </p:spPr>
      </p:pic>
      <p:sp>
        <p:nvSpPr>
          <p:cNvPr id="152" name="Line 5"/>
          <p:cNvSpPr/>
          <p:nvPr/>
        </p:nvSpPr>
        <p:spPr>
          <a:xfrm>
            <a:off x="2916360" y="1700280"/>
            <a:ext cx="3311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4140360" y="2276640"/>
            <a:ext cx="2087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7"/>
          <p:cNvSpPr/>
          <p:nvPr/>
        </p:nvSpPr>
        <p:spPr>
          <a:xfrm>
            <a:off x="2916360" y="2708280"/>
            <a:ext cx="19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4140360" y="2276640"/>
            <a:ext cx="718920" cy="43164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4498920" y="227664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1"/>
          <p:cNvSpPr/>
          <p:nvPr/>
        </p:nvSpPr>
        <p:spPr>
          <a:xfrm flipV="1">
            <a:off x="4498920" y="256356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2"/>
          <p:cNvSpPr/>
          <p:nvPr/>
        </p:nvSpPr>
        <p:spPr>
          <a:xfrm>
            <a:off x="4140360" y="24922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3"/>
          <p:cNvSpPr/>
          <p:nvPr/>
        </p:nvSpPr>
        <p:spPr>
          <a:xfrm flipH="1">
            <a:off x="4572000" y="2492280"/>
            <a:ext cx="287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5"/>
          <p:cNvSpPr/>
          <p:nvPr/>
        </p:nvSpPr>
        <p:spPr>
          <a:xfrm>
            <a:off x="3059280" y="1700280"/>
            <a:ext cx="0" cy="1008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6"/>
          <p:cNvSpPr/>
          <p:nvPr/>
        </p:nvSpPr>
        <p:spPr>
          <a:xfrm>
            <a:off x="6012000" y="170028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7"/>
          <p:cNvSpPr/>
          <p:nvPr/>
        </p:nvSpPr>
        <p:spPr>
          <a:xfrm flipV="1">
            <a:off x="3059280" y="1700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8"/>
          <p:cNvSpPr/>
          <p:nvPr/>
        </p:nvSpPr>
        <p:spPr>
          <a:xfrm flipV="1">
            <a:off x="6012000" y="1699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411280" y="1989000"/>
            <a:ext cx="72072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0"/>
          <p:cNvSpPr/>
          <p:nvPr/>
        </p:nvSpPr>
        <p:spPr>
          <a:xfrm>
            <a:off x="5796000" y="1844640"/>
            <a:ext cx="72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1"/>
          <p:cNvSpPr/>
          <p:nvPr/>
        </p:nvSpPr>
        <p:spPr>
          <a:xfrm>
            <a:off x="4067280" y="1771560"/>
            <a:ext cx="72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2"/>
          <p:cNvSpPr/>
          <p:nvPr/>
        </p:nvSpPr>
        <p:spPr>
          <a:xfrm>
            <a:off x="4067280" y="2852640"/>
            <a:ext cx="72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3"/>
          <p:cNvSpPr/>
          <p:nvPr/>
        </p:nvSpPr>
        <p:spPr>
          <a:xfrm>
            <a:off x="3274920" y="2205000"/>
            <a:ext cx="720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4"/>
          <p:cNvSpPr/>
          <p:nvPr/>
        </p:nvSpPr>
        <p:spPr>
          <a:xfrm>
            <a:off x="4788000" y="2347920"/>
            <a:ext cx="72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5"/>
          <p:cNvSpPr/>
          <p:nvPr/>
        </p:nvSpPr>
        <p:spPr>
          <a:xfrm>
            <a:off x="6985080" y="1701720"/>
            <a:ext cx="1439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6"/>
          <p:cNvSpPr/>
          <p:nvPr/>
        </p:nvSpPr>
        <p:spPr>
          <a:xfrm>
            <a:off x="6985080" y="2205000"/>
            <a:ext cx="1439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7"/>
          <p:cNvSpPr/>
          <p:nvPr/>
        </p:nvSpPr>
        <p:spPr>
          <a:xfrm>
            <a:off x="6913440" y="2708280"/>
            <a:ext cx="161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.к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9"/>
          <p:cNvSpPr/>
          <p:nvPr/>
        </p:nvSpPr>
        <p:spPr>
          <a:xfrm>
            <a:off x="2627280" y="1197000"/>
            <a:ext cx="3889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СИЛА АРХИМ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0"/>
          <p:cNvSpPr/>
          <p:nvPr/>
        </p:nvSpPr>
        <p:spPr>
          <a:xfrm>
            <a:off x="2411280" y="3500280"/>
            <a:ext cx="4249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–– выталкивающая си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1"/>
          <p:cNvSpPr/>
          <p:nvPr/>
        </p:nvSpPr>
        <p:spPr>
          <a:xfrm>
            <a:off x="1835280" y="5518080"/>
            <a:ext cx="223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Arial"/>
              </a:rPr>
              <a:t>Е возд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Arial"/>
              </a:rPr>
              <a:t>Е жид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2"/>
          <p:cNvSpPr/>
          <p:nvPr/>
        </p:nvSpPr>
        <p:spPr>
          <a:xfrm>
            <a:off x="6300720" y="4508640"/>
            <a:ext cx="223200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Arial"/>
              </a:rPr>
              <a:t>ж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Arial"/>
              </a:rPr>
              <a:t>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Arial"/>
              </a:rPr>
              <a:t>ж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Arial"/>
              </a:rPr>
              <a:t>ж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Arial"/>
              </a:rPr>
              <a:t>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33"/>
          <p:cNvSpPr/>
          <p:nvPr/>
        </p:nvSpPr>
        <p:spPr>
          <a:xfrm>
            <a:off x="7164360" y="5661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4"/>
          <p:cNvSpPr/>
          <p:nvPr/>
        </p:nvSpPr>
        <p:spPr>
          <a:xfrm>
            <a:off x="1332000" y="4724280"/>
            <a:ext cx="2736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 Архимеда: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5"/>
          <p:cNvSpPr/>
          <p:nvPr/>
        </p:nvSpPr>
        <p:spPr>
          <a:xfrm>
            <a:off x="539640" y="2492280"/>
            <a:ext cx="1657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. до н.э.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ПОДУМАЙ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3683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акой из опущенных в воду стальных шаров действует наибольшая выталкивающая си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>
            <a:lum contrast="18000"/>
          </a:blip>
          <a:srcRect l="2018" t="2376" r="8243" b="9901"/>
          <a:stretch/>
        </p:blipFill>
        <p:spPr>
          <a:xfrm>
            <a:off x="4643280" y="2565360"/>
            <a:ext cx="316872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ПОДУМАЙ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76720" y="1980720"/>
            <a:ext cx="3610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инакового объема тела – стеклянное и стальное – опущены в воду. Одинаковые ли выталкивающие силы действуют на ни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>
            <a:lum contrast="24000"/>
          </a:blip>
          <a:srcRect l="0" t="0" r="0" b="16420"/>
          <a:stretch/>
        </p:blipFill>
        <p:spPr>
          <a:xfrm>
            <a:off x="1042920" y="2346480"/>
            <a:ext cx="3816360" cy="23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ПОДУМАЙ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3898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инаковые ли выталкивающие силы будут действовать на данное тело в жидкости при погружении его на разную глубин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4211640" y="2125800"/>
            <a:ext cx="4175280" cy="33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ПОДУМАЙ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788000" y="1980720"/>
            <a:ext cx="3898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ится ли выталкивающая сила, если брусок, находящийся в жидкости, перевести из положения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положение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б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rcRect l="-3124" t="0" r="6269" b="0"/>
          <a:stretch/>
        </p:blipFill>
        <p:spPr>
          <a:xfrm>
            <a:off x="611280" y="2311560"/>
            <a:ext cx="403200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ПОДУМАЙ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713800" cy="15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вешенные к коромыслу весов одинаковые шары погрузили в жидкость сначала так, как показано на рисунке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затем так, как показано на рисунк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каком случае равновесие весов нарушится?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rcRect l="7125" t="4230" r="0" b="0"/>
          <a:stretch/>
        </p:blipFill>
        <p:spPr>
          <a:xfrm>
            <a:off x="900000" y="3284640"/>
            <a:ext cx="713124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ПОДУМАЙ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3898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дне аквариума находится камень, полностью погруженный в воду. Изменится ли действующая на камень выталкивающая сила при доливании воды в аквариу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Новый рисунок (3)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5148360" y="2133720"/>
            <a:ext cx="26352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ПОДУМАЙ !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3827520" cy="45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е выталкивающую силу, действующую на погруженный в воду цилинд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{8D182C98-BBB0-4555-8130-9DCC2AC437C7}"/>
          <p:cNvPicPr/>
          <p:nvPr/>
        </p:nvPicPr>
        <p:blipFill>
          <a:blip r:embed="rId1"/>
          <a:srcRect l="9921" t="0" r="48665" b="0"/>
          <a:stretch/>
        </p:blipFill>
        <p:spPr>
          <a:xfrm>
            <a:off x="5435640" y="1557360"/>
            <a:ext cx="27637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ПОДУМАЙ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716000" y="1980720"/>
            <a:ext cx="3970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сок стального рельса находится на дне реки. Его приподняли и поставили вертикально. Изменилась ли при этом действующая на него выталкивающая сила? Изменится ли она, если при подъеме часть рельса окажется над вод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Новый рисунок (3)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971640" y="2701800"/>
            <a:ext cx="360036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ПОДУМАЙ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859280" y="1980720"/>
            <a:ext cx="3827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чему у рыб и морских животных менее массивный скелет по сравнению со скелетом млекопитающих, а конечности атрофирова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d_515"/>
          <p:cNvPicPr/>
          <p:nvPr/>
        </p:nvPicPr>
        <p:blipFill>
          <a:blip r:embed="rId1"/>
          <a:stretch/>
        </p:blipFill>
        <p:spPr>
          <a:xfrm>
            <a:off x="468360" y="1628640"/>
            <a:ext cx="3505320" cy="2308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k00061"/>
          <p:cNvPicPr/>
          <p:nvPr/>
        </p:nvPicPr>
        <p:blipFill>
          <a:blip r:embed="rId2"/>
          <a:stretch/>
        </p:blipFill>
        <p:spPr>
          <a:xfrm>
            <a:off x="971640" y="3573360"/>
            <a:ext cx="3576600" cy="23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ПОДУМАЙ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691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чему отстаивание воды ведет к очищению ее от нерастворимых в ней вещест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5435640" y="2060640"/>
            <a:ext cx="2544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ЗАЛЬЕТ  ЛИ  ВОДА  СВЕЧ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284720" y="1980720"/>
            <a:ext cx="4402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устим в сосуд с водой стеариновую свечу (на ее нижнем конце закреплен небольшой грузик). Свеча плавает, как поплавок. Как долго будет гореть свеч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Новый рисунок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452600" y="2060640"/>
            <a:ext cx="2039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Источники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к «Библиотека электронных наглядных пособий», Физика, 7-11 класс («Кирилл и Мефодий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к «Физика. Библиотека наглядных пособий. 7-11кл.» («1С: Образование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к «Большая энциклопедия Кирилла и Мефод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ботарева А.В. Самостоятельные работы учащихся по физике в 6-7 классе: Дидакт. материал. Пособие для учителя. – М.: Просвещение, 19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ЭКСПЕРИМЕНТИРУ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90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весим к пружине небольшое ведерко и тело цилиндрической формы. Отметим положение стрелки-указателя на штати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Res" descr="res98C4D836-E6F7-43DA-98E9-471CD2C17C7D"/>
          <p:cNvPicPr/>
          <p:nvPr/>
        </p:nvPicPr>
        <p:blipFill>
          <a:blip r:embed="rId1"/>
          <a:srcRect l="24945" t="0" r="19654" b="0"/>
          <a:stretch/>
        </p:blipFill>
        <p:spPr>
          <a:xfrm>
            <a:off x="5508720" y="1628640"/>
            <a:ext cx="29908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ЭКСПЕРИМЕНТИРУ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95280" y="1980720"/>
            <a:ext cx="4691160" cy="25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естим тело в сосу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чему сократилась пружина при погружении цилиндра в вод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Res" descr="res8E0059E4-2BAE-467A-AD82-428C00722308"/>
          <p:cNvPicPr/>
          <p:nvPr/>
        </p:nvPicPr>
        <p:blipFill>
          <a:blip r:embed="rId1"/>
          <a:srcRect l="17386" t="0" r="17386" b="0"/>
          <a:stretch/>
        </p:blipFill>
        <p:spPr>
          <a:xfrm>
            <a:off x="611280" y="1700280"/>
            <a:ext cx="3106800" cy="4464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4572000" y="4508640"/>
            <a:ext cx="41036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каков объем воды, вылившейся из сосу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ЭКСПЕРИМЕНТИРУ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762440" cy="20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нужно сделать, чтобы пружина заняла первоначальное поло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Res" descr="res2B9342A5-C70D-47CC-A3D8-AACB47B44ED6"/>
          <p:cNvPicPr/>
          <p:nvPr/>
        </p:nvPicPr>
        <p:blipFill>
          <a:blip r:embed="rId1"/>
          <a:srcRect l="21166" t="0" r="21166" b="0"/>
          <a:stretch/>
        </p:blipFill>
        <p:spPr>
          <a:xfrm>
            <a:off x="5724360" y="1557360"/>
            <a:ext cx="2622600" cy="4753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1116000" y="3933720"/>
            <a:ext cx="3672000" cy="17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как можно увеличить вес ведер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5159520" cy="31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ла, выталкивающая целиком погруженное в газ или жидкость тело, равна весу газа или жидкости в объеме этого т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7BAE6F05"/>
          <p:cNvPicPr/>
          <p:nvPr/>
        </p:nvPicPr>
        <p:blipFill>
          <a:blip r:embed="rId1"/>
          <a:stretch/>
        </p:blipFill>
        <p:spPr>
          <a:xfrm>
            <a:off x="5796000" y="2781360"/>
            <a:ext cx="2638440" cy="1065240"/>
          </a:xfrm>
          <a:prstGeom prst="rect">
            <a:avLst/>
          </a:prstGeom>
          <a:ln w="0">
            <a:noFill/>
          </a:ln>
        </p:spPr>
      </p:pic>
      <p:sp>
        <p:nvSpPr>
          <p:cNvPr id="126" name="Line 6"/>
          <p:cNvSpPr/>
          <p:nvPr/>
        </p:nvSpPr>
        <p:spPr>
          <a:xfrm flipV="1">
            <a:off x="7164360" y="2492280"/>
            <a:ext cx="0" cy="936720"/>
          </a:xfrm>
          <a:prstGeom prst="line">
            <a:avLst/>
          </a:prstGeom>
          <a:ln w="50760">
            <a:solidFill>
              <a:srgbClr val="ff0000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6012000" y="4797360"/>
            <a:ext cx="2160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Times New Roman"/>
              </a:rPr>
              <a:t>F</a:t>
            </a:r>
            <a:r>
              <a:rPr b="0" lang="en-US" sz="4800" spc="-1" strike="noStrike" baseline="-25000">
                <a:solidFill>
                  <a:srgbClr val="00007d"/>
                </a:solidFill>
                <a:latin typeface="Times New Roman"/>
              </a:rPr>
              <a:t>A</a:t>
            </a:r>
            <a:r>
              <a:rPr b="0" lang="ru-RU" sz="4800" spc="-1" strike="noStrike">
                <a:solidFill>
                  <a:srgbClr val="00007d"/>
                </a:solidFill>
                <a:latin typeface="Times New Roman"/>
              </a:rPr>
              <a:t> = Р</a:t>
            </a:r>
            <a:r>
              <a:rPr b="0" lang="ru-RU" sz="4800" spc="-1" strike="noStrike" baseline="-25000">
                <a:solidFill>
                  <a:srgbClr val="00007d"/>
                </a:solidFill>
                <a:latin typeface="Times New Roman"/>
              </a:rPr>
              <a:t>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ЗАКОН  АРХИМ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605952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ло, находящееся в жидкости (или газе), теряет в своем весе столько, сколько весит жидкость (или газ) в объеме, вытесненном тел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pa_806"/>
          <p:cNvPicPr/>
          <p:nvPr/>
        </p:nvPicPr>
        <p:blipFill>
          <a:blip r:embed="rId1"/>
          <a:stretch/>
        </p:blipFill>
        <p:spPr>
          <a:xfrm>
            <a:off x="6300720" y="2276640"/>
            <a:ext cx="20052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ЛЕГЕНДА  ОБ  АРХИМЕ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08000" y="1980720"/>
            <a:ext cx="4978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личайший древнегреческий ученый, математик, физик и изобретатель (287 г. до н.э. – 212 г. до н.э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Царь Гиерон: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«Золотая ли корона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{83CF3DBA-5858-4E37-9D81-B03EDFF5DDC5}"/>
          <p:cNvPicPr/>
          <p:nvPr/>
        </p:nvPicPr>
        <p:blipFill>
          <a:blip r:embed="rId1"/>
          <a:srcRect l="2976" t="2352" r="2976" b="13330"/>
          <a:stretch/>
        </p:blipFill>
        <p:spPr>
          <a:xfrm>
            <a:off x="179280" y="1989000"/>
            <a:ext cx="341316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ЭКСПЕРИМЕНТИРУЙ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ясните, от каких величин 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зависи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химедова сила, а от каких – 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не зависи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объема погруженной части те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плотности те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веса те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глубины погруж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плотности жид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{B34487C8-9756-4398-8D27-92554652DBDA}"/>
          <p:cNvPicPr/>
          <p:nvPr/>
        </p:nvPicPr>
        <p:blipFill>
          <a:blip r:embed="rId1"/>
          <a:stretch/>
        </p:blipFill>
        <p:spPr>
          <a:xfrm>
            <a:off x="5076720" y="3825720"/>
            <a:ext cx="3665520" cy="2749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{8D182C98-BBB0-4555-8130-9DCC2AC437C7}"/>
          <p:cNvPicPr/>
          <p:nvPr/>
        </p:nvPicPr>
        <p:blipFill>
          <a:blip r:embed="rId2"/>
          <a:srcRect l="36850" t="67408" r="51972" b="6929"/>
          <a:stretch/>
        </p:blipFill>
        <p:spPr>
          <a:xfrm>
            <a:off x="7667640" y="3573360"/>
            <a:ext cx="852480" cy="1467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4356000" y="5300640"/>
            <a:ext cx="18954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8:00:58Z</dcterms:created>
  <dc:creator>user</dc:creator>
  <dc:description/>
  <dc:language>en-US</dc:language>
  <cp:lastModifiedBy>ЦИТ</cp:lastModifiedBy>
  <dcterms:modified xsi:type="dcterms:W3CDTF">2013-04-29T12:05:59Z</dcterms:modified>
  <cp:revision>30</cp:revision>
  <dc:subject/>
  <dc:title>АРХИМЕДОВА  СИЛА</dc:title>
</cp:coreProperties>
</file>