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61A-4CAF-43A5-9AF7-7E1CBA5B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9C6-1CEE-4CA5-8D0A-8A44A10A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7EA-F620-460F-901A-D3205E62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915-27C0-42B1-8AD0-04296D15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4686-8933-41A6-9134-C2965CEA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8429-76F9-4F42-9F55-526663FD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1C71-3ADF-4348-A857-2A984602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F957-D4E0-44B8-8168-68CA2893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7BC0-A49E-4798-95BD-BF853146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D9E0-483B-42CE-B225-827D1E4E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113F-4469-4F6A-926E-CDB43C83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AA2C-A911-47CA-BFE0-5E0CF6AD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4115-0B5B-41B4-B39B-82190A41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9D4E-A470-4752-88B9-8F1BC9C9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1125-8EC5-4A2A-9617-D67AC706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D77A-2844-453F-8BD7-AD865BA7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7B2F-24F4-4587-A551-1CA5BDD4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AEF32-9399-4020-8F96-6B1A231C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36421-6F4F-4D82-BE21-1C77A9FC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8DBE3-7FBE-4B50-BE2F-851E207C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79570-0F92-416A-9938-50ED0EE6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37103-F71C-456D-86EF-BCB1B11F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7C6-F793-4D62-81C3-105ED462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D8C87-189C-4B2A-8A0C-0D0FD34F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D2839-0714-41E6-8737-41817BBC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BEAEF-0178-4251-8D06-F70950FF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86807-D14F-40E7-B52F-AD6190FF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248E-F9EA-4F7C-A16A-28EA2E62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0E0D7-345F-47E9-9B85-A5C4379F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E506A-2B10-40DC-8792-767B07CE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79E04-4275-439C-ADE9-88975103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D8A918-3E99-46A1-91CD-FF46698B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812DF-D983-4407-8A33-65F88CBB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658-E9AD-4D11-AB74-5E08A173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AA6137-6880-4FF8-9B76-FC4CA313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85B8CC-9E7B-41AB-AC87-21B949C2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6E866-C074-4770-8D8F-B2D545A6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B631AA-B8DE-481B-8DEF-70925350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1FDFF9-A276-4E7E-830D-880DA049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E69F1F-9562-41FC-9D85-32078F9E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3457F9-2061-48DA-87F8-80BAFFFE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E133D1-C9C9-4883-8EA2-4794FA32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88AE8F-3E22-4C6A-A32B-AD6FF7D8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06D-E146-4948-BF86-7BCF8915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4D5-334D-4DF5-8696-F79FD2D5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59C-D34A-4908-BD42-10CC35B3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6A0A-9BE6-4673-8136-CEFFEB8E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6E0A-29EC-4F0B-ADCF-40AF0451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0C27-593E-46F1-8F26-DD8CDA95E0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A081-D835-4C17-9F32-954A361050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25C9-899D-4DB1-ACC1-C7C901A1D5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0860-D160-4C11-9399-8A8435DC80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84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Информационные технологии на уроках</a:t>
            </a:r>
            <a:br>
              <a:rPr sz="3600"/>
            </a:b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«Окружающий мир вокруг нас».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80000" y="2400480"/>
            <a:ext cx="5400360" cy="4124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-181080" y="5950080"/>
            <a:ext cx="352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Учитель начальных классов</a:t>
            </a:r>
            <a:br>
              <a:rPr sz="1800"/>
            </a:b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Князе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20040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0" y="0"/>
            <a:ext cx="4176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ума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ahoma"/>
              </a:rPr>
              <a:t>Круговорот воды в природ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-36360" y="1484280"/>
            <a:ext cx="27460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Проделаем</a:t>
            </a:r>
            <a:br>
              <a:rPr sz="3200"/>
            </a:b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опы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84360" y="2516040"/>
            <a:ext cx="7920000" cy="40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0" y="3068640"/>
            <a:ext cx="165564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дяной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340000" y="1341360"/>
            <a:ext cx="16556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уч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732720" y="3284640"/>
            <a:ext cx="16556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ждь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724360" y="4437000"/>
            <a:ext cx="1656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к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11280" y="5157720"/>
            <a:ext cx="16556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е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67248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Итог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Состояние в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идк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верд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азообраз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ода постоянно совершает круговорот в прир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ветить на вопросы раздела «Проверь себя» (учебник стр. 56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ть задание (учебник стр. 56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ть задание 27 в Рабочей тетради (стр. 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26920" y="1341360"/>
            <a:ext cx="777744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вращения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руговорот воды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3628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Задание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- Прочитайте предложения. Вместо точек впишите пропущенные слов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да … при нагревании и … при охлаждении. В воде растворяются некоторые вещества, потому что вода хороший … . Воду можно очистить с помощью …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Задание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да – растворитель. Как проявляется Это свойство в природе? Приведите примеры. Ответ напиши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Задание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- Какие свойства имеют воздух и вод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ыберите из таблицы эти свойства и запишите ответы соответствующими цифрам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61880" y="3882960"/>
          <a:ext cx="8431200" cy="2786040"/>
        </p:xfrm>
        <a:graphic>
          <a:graphicData uri="http://schemas.openxmlformats.org/drawingml/2006/table">
            <a:tbl>
              <a:tblPr/>
              <a:tblGrid>
                <a:gridCol w="4464000"/>
                <a:gridCol w="1800360"/>
                <a:gridCol w="2166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8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цвет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имеет запах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ширяется при нагревани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жимается при охлаждени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вори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хо проводит тепл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зрачност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кучест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ова роль воды в жизни организмов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ие свойства воды вы знает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 можно очистить загрязненную вод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скажите о составе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211640" y="1773360"/>
            <a:ext cx="4038480" cy="1396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443640" y="4005360"/>
            <a:ext cx="1762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Проверь себ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3628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Задание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- Прочитайте предложения. Вместо точек впишите пропущенные слов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да … при нагревании и … при охлаждении. В воде растворяются некоторые вещества, потому что вода хороший … . Воду можно очистить с помощью …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Задание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да – растворитель. Как проявляется Это свойство в природе? Приведите примеры. Ответ напиши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Задание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61880" y="3789360"/>
          <a:ext cx="8431200" cy="2786040"/>
        </p:xfrm>
        <a:graphic>
          <a:graphicData uri="http://schemas.openxmlformats.org/drawingml/2006/table">
            <a:tbl>
              <a:tblPr/>
              <a:tblGrid>
                <a:gridCol w="4464000"/>
                <a:gridCol w="1800360"/>
                <a:gridCol w="2166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8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цвет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имеет запах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ширяется при нагревани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жимается при охлаждени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вори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хо проводит тепл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зрачност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кучест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2, 3, 4, 6, 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2, 3, 4, 7, 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732720" y="4221000"/>
            <a:ext cx="2160360" cy="2303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537372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8911E-006 L -2.77778E-007 0.16802 E">
                                      <p:cBhvr>
                                        <p:cTn id="85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8920" y="190512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Я и туча, и туман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Я ручей и океан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Я летаю и бегу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И стеклянной быть мог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73200" y="5079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Три состояния вод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2120760"/>
            <a:ext cx="871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Я и туча, и туман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Я ручей и океан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Я летаю и бегу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И стеклянной быть мог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4360" y="2133720"/>
            <a:ext cx="8208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99"/>
                </a:solidFill>
                <a:latin typeface="Impact"/>
              </a:rPr>
              <a:t>Вода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00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395280" y="260280"/>
            <a:ext cx="352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йсберг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Работа с рисунко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то изображено на рисунк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то обозначают стрелки на этом рисунк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скажите, что происходит с частицами воды при образовании пара и ль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пробуйте объяснить, почему при превращении в лед вода расширя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79725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95280" y="1844640"/>
            <a:ext cx="201600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3"/>
          </p:cNvCxnSpPr>
          <p:nvPr/>
        </p:nvCxnSpPr>
        <p:spPr>
          <a:xfrm flipV="1">
            <a:off x="2410920" y="2347560"/>
            <a:ext cx="8643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3276720" y="1844640"/>
            <a:ext cx="215892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00720" y="1844640"/>
            <a:ext cx="251928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"/>
          <p:cNvCxnSpPr/>
          <p:nvPr/>
        </p:nvCxnSpPr>
        <p:spPr>
          <a:xfrm flipV="1">
            <a:off x="5435280" y="2348640"/>
            <a:ext cx="8643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8:34:47Z</dcterms:created>
  <dc:creator>Customer</dc:creator>
  <dc:description/>
  <dc:language>en-US</dc:language>
  <cp:lastModifiedBy>мама</cp:lastModifiedBy>
  <dcterms:modified xsi:type="dcterms:W3CDTF">2008-06-07T21:04:58Z</dcterms:modified>
  <cp:revision>5</cp:revision>
  <dc:subject/>
  <dc:title>Информационные технологии на уроках «Окружающий мир вокруг нас».</dc:title>
</cp:coreProperties>
</file>