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231-4BD8-4CBB-9767-A301241B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C4F-EDE1-4A48-92C6-B46D861B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82E-3DC0-4500-814D-E23D5D28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EEE-2F99-4394-8B64-9C9FEE37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3BF-B7D8-484F-A245-937EE219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992-42B6-4E79-B38E-5D4E6404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BDD-C21E-48C2-945C-33F3740D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4BF-895B-4508-9C1F-681F09FA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660-61C0-4B14-8E2F-9E2C9A60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EAA-5C6A-4FDD-9B8A-C8A1BAC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741-D70E-45CF-976F-6120EC9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AE6-98C2-4DFF-BE8A-AB239F9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3F16-85B7-4171-B5CF-1F1B79D98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Деление на десятичную дроб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ок математики в 5 классе МОУ СОШ №1 с. Доб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Получи сло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,66    6    0,35    40,66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35 –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,66 –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 - 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   -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ешь ли ты эти правил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,25 :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,8 : 0,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Головолом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каких трёх цифр равна их произведению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получится , если 50 разделить на половину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бери лишний 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,9     6,3     2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2      2,4     4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,6    10,2     3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из пронумерованных фигур должна занять место в таблице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24062" t="57221" r="20343" b="7107"/>
          <a:stretch/>
        </p:blipFill>
        <p:spPr>
          <a:xfrm>
            <a:off x="5364000" y="4183200"/>
            <a:ext cx="2808360" cy="2479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Урав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и уравнени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ариант                 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,2*(х - 3,5)=16,38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,63 : ( 4,3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полнительно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5,7х +0,3х – 2,4 = 89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Тест - прогно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 правильный ответ и заполни 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cc33"/>
                </a:solidFill>
                <a:uFillTx/>
                <a:latin typeface="Arial"/>
              </a:rPr>
              <a:t>Финиш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ценим вашу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2 * х =0,36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-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: 0,7 =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8 -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5 : х = 0,9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  -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: 0,01 =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 -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: 0,05 =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-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 : 0,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. 37, № 1465 ( в ), № 146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репить знания о правилах деления на десятичную дробь и на дроби 0,1; 0,01; 0,001 и т.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Девиз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иться можно веселе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переварить знания, на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глощать их с аппети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толь Фран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8204" t="6159" r="4025" b="17705"/>
          <a:stretch/>
        </p:blipFill>
        <p:spPr>
          <a:xfrm>
            <a:off x="468360" y="3998880"/>
            <a:ext cx="5040360" cy="26398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Математическое ло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357720"/>
            <a:ext cx="266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Письмо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ш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3357720"/>
            <a:ext cx="2808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Получи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3357720"/>
            <a:ext cx="2305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492280"/>
            <a:ext cx="266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Кросс -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492280"/>
            <a:ext cx="2808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Ну и зада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27640" y="2492280"/>
            <a:ext cx="2305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Загад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4292640"/>
            <a:ext cx="2305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Тест - прог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92640"/>
            <a:ext cx="2808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292640"/>
            <a:ext cx="266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Головолом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8360" y="1413000"/>
            <a:ext cx="80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 - опро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Ну и задач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дного цветка одновременно вылетели в противоположные стороны две стрекозы. Через 0,08 ч между ними было 4,4 км. Скорость полёта одной стрекозы 28,8 к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. Найдите скорость полёта другой стрек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35280" y="3645000"/>
            <a:ext cx="5761080" cy="298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Загадо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равь ошиб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85,3 : 0,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85,3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12,8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 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но ли 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9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9            7,5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7,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,1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,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26,34~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,81 и 3,81 : 2,1      7,84 и 7,84 :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31169" t="51151" r="4468" b="3152"/>
          <a:stretch/>
        </p:blipFill>
        <p:spPr>
          <a:xfrm>
            <a:off x="6300720" y="1341360"/>
            <a:ext cx="2303640" cy="2192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Письмо из прош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едневек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 – Каши Джемшид ибн Масуд – знаменитый учёный начала  15 век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ь десятичных дробе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 5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41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он Стевин – голландский учё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л книгу «Десятая» (1585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528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Получи сло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Вычислите наиболее удобным способом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вариант                           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,34 : 4,3 + 22,36:4,3             24,57:2,7- 8,37:2,7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2. Найдите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вариант                            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3 * 1,18 – 1,419):3,7         3,8 * (8,57+9,585:4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0:23:35Z</dcterms:created>
  <dc:creator>USER</dc:creator>
  <dc:description/>
  <dc:language>en-US</dc:language>
  <cp:lastModifiedBy>USER</cp:lastModifiedBy>
  <dcterms:modified xsi:type="dcterms:W3CDTF">2007-03-22T05:38:39Z</dcterms:modified>
  <cp:revision>4</cp:revision>
  <dc:subject/>
  <dc:title>Деление на десятичную дробь.</dc:title>
</cp:coreProperties>
</file>